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2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5.png" ContentType="image/png"/>
  <Override PartName="/ppt/media/image29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9.png" ContentType="image/png"/>
  <Override PartName="/ppt/media/image33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2.png" ContentType="image/png"/>
  <Override PartName="/ppt/media/image23.jpeg" ContentType="image/jpe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54D8-9F47-4F81-83D2-4C976DD3C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B6E0-7565-43A1-8DE5-6541E2DA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E863-DEE4-4314-8B84-6C7BB128B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3FFB-7E72-4B8D-A0D6-1A79CF527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FD92-4776-432C-A603-8BEA445D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FF51-345D-4A38-B9DA-E1639ADD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228C-1AE2-469B-91A6-3B93FD68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850F-D6BC-4F6C-85C3-FD003281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A607-CCF9-4872-9A92-062FE8AA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49F6-45DB-4CCF-9609-5BAA8F5C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F2CC-F913-4E60-9049-8B77EDA3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6842-0213-4A57-AF46-1FDF7E29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A8E0-58BC-4C98-AF95-1FFA67E8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D5DE-96BC-471C-8322-041B98DD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9B0F-2750-46C8-A61B-67C3F52E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CBDB-DA38-4444-913C-FD9B7085C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266F-136D-45C4-B80C-7A684E62E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4D7E2-62E1-4024-9B06-4BBC95115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B7248-1928-4BB7-A484-B29BE1EE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4590B-2ACA-4975-A6A9-075CB5E2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B9852-C305-4BD9-B7B1-BD74232B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439D4-81A6-40FC-9EDF-2EBD80B1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9DB8-DCAD-4C85-A819-B7BFED6D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41A49-439F-4F2C-B891-673DB22B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BB006-A387-4E5D-8F8F-5417A0A2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A7C33-6AE7-4BE3-9D8D-3E108B70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AF87B-83A4-4C5C-AE75-61870504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71917-93DA-4E6B-9DFC-15277A73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B4495-26F7-4380-8BA6-B84FCCDCB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1E90E-260E-438A-9BBF-829C5AD47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042DB-CE4C-46F8-8F0B-FF8A58ABA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79E30-404F-4157-9B36-A240783C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B775E-8FA7-4388-92AB-2F3079B7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26C0-0B08-4208-8E18-C8FEA3BA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3D2C1-991B-4A32-A0C8-A1748C3A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7E16F-D18D-4B96-B16B-20FBFB11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393D6-D8F3-4757-9964-E7C22036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37A10-0D22-4C5D-A013-F6A2062D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88D0F-B330-4811-9A39-973BEE32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C292F-143F-4544-8225-4C6C5081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10152-5BEB-4490-B087-3D166447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F7F42-543B-484B-B977-0A7F6FBCE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DBEAF-44DD-4D16-8DBF-D9FC3011F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8ED178-14A0-4009-9408-5F5DEAC0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C043-6EF3-46BC-9B65-5F432184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6201F6-15AD-4502-ADE5-B451A964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A05AA3-DE6D-4776-BFFE-A7F5F9F6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DFF928-B93A-4181-94CB-870A13D5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090795-45D1-4C9C-BB84-EE6DD9CC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F28D72-E274-48D0-9254-4BC57D5B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B8C8F3-DE54-417A-BC80-1ADE4348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07FB66-612A-4131-A7EB-782BABC6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11118B-2917-40BE-995C-C36FAD93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3C4D72-81C4-4E6D-933A-B1096B7E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DBEC81-38F0-4691-917B-291A3A63E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7C7E-A6B6-40FF-B01C-A8918DD6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4043E1-1396-42B5-A703-06E725F4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44A8-5EB7-4E18-AA22-D2C67D32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9251-A2A7-4AA5-B309-E49CE50F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A396-07D4-493A-89DD-D29F095A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81F5-3716-49A2-B297-44D78596A7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ADD2-2D61-42F9-B89B-F0C987AD7BB8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7AE3-6A6D-4929-A788-8D3BD9195378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D60A-C6F4-4F16-89A6-DB7267F8BCFB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1332-839F-46E7-AC3B-80E9B29ECF79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202A-C900-42E9-89DF-288AEBB3D871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DCAC-9B31-4369-8E0C-C02D0E8353F7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6F1A-C4FA-46FE-8607-D119B8BCF36D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4-5plus.ru/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сновные этапы исторического развития России 19 века и её отражение в литерат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6553080" y="6286680"/>
            <a:ext cx="2305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6423-051D-457E-851D-F4F20B6371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рок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оциально-политическая борьба во второй половине 19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кругленная прямоугольная выноска 7"/>
          <p:cNvSpPr/>
          <p:nvPr/>
        </p:nvSpPr>
        <p:spPr>
          <a:xfrm>
            <a:off x="2340000" y="2400480"/>
            <a:ext cx="4968720" cy="3168360"/>
          </a:xfrm>
          <a:prstGeom prst="wedgeRoundRectCallout">
            <a:avLst>
              <a:gd name="adj1" fmla="val 22175"/>
              <a:gd name="adj2" fmla="val -62458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22268"/>
                </a:solidFill>
                <a:uFillTx/>
                <a:latin typeface="Times New Roman"/>
                <a:ea typeface="Times New Roman"/>
              </a:rPr>
              <a:t>Выступали</a:t>
            </a: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про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любых общественных переме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 u="sng">
                <a:solidFill>
                  <a:srgbClr val="222268"/>
                </a:solidFill>
                <a:uFillTx/>
                <a:latin typeface="Times New Roman"/>
                <a:ea typeface="Times New Roman"/>
              </a:rPr>
              <a:t>сопротивля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всему ново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 u="sng">
                <a:solidFill>
                  <a:srgbClr val="222268"/>
                </a:solidFill>
                <a:uFillTx/>
                <a:latin typeface="Times New Roman"/>
                <a:ea typeface="Times New Roman"/>
              </a:rPr>
              <a:t>хотели сохра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репостнические поря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2226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Номер слайда 15"/>
          <p:cNvSpPr/>
          <p:nvPr/>
        </p:nvSpPr>
        <p:spPr>
          <a:xfrm>
            <a:off x="6553080" y="6286680"/>
            <a:ext cx="2305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EBAA-CA87-4809-9875-2EFBA027E8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~PP23351.WAV" descr=""/>
          <p:cNvPicPr/>
          <p:nvPr/>
        </p:nvPicPr>
        <p:blipFill>
          <a:blip r:embed="rId1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9" name="Прямоугольник 1" descr=""/>
          <p:cNvPicPr/>
          <p:nvPr/>
        </p:nvPicPr>
        <p:blipFill>
          <a:blip r:embed="rId2"/>
          <a:stretch/>
        </p:blipFill>
        <p:spPr>
          <a:xfrm>
            <a:off x="2987640" y="1414440"/>
            <a:ext cx="3151080" cy="646200"/>
          </a:xfrm>
          <a:prstGeom prst="rect">
            <a:avLst/>
          </a:prstGeom>
          <a:ln w="0">
            <a:noFill/>
          </a:ln>
        </p:spPr>
      </p:pic>
      <p:pic>
        <p:nvPicPr>
          <p:cNvPr id="240" name="Прямоугольник 18" descr=""/>
          <p:cNvPicPr/>
          <p:nvPr/>
        </p:nvPicPr>
        <p:blipFill>
          <a:blip r:embed="rId3"/>
          <a:stretch/>
        </p:blipFill>
        <p:spPr>
          <a:xfrm>
            <a:off x="3029040" y="5583240"/>
            <a:ext cx="3348000" cy="64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оциально-политическая борьба во второй половине 19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Прямоугольник 3" descr=""/>
          <p:cNvPicPr/>
          <p:nvPr/>
        </p:nvPicPr>
        <p:blipFill>
          <a:blip r:embed="rId1"/>
          <a:stretch/>
        </p:blipFill>
        <p:spPr>
          <a:xfrm>
            <a:off x="3346560" y="1249200"/>
            <a:ext cx="2255760" cy="646200"/>
          </a:xfrm>
          <a:prstGeom prst="rect">
            <a:avLst/>
          </a:prstGeom>
          <a:ln w="0">
            <a:noFill/>
          </a:ln>
        </p:spPr>
      </p:pic>
      <p:sp>
        <p:nvSpPr>
          <p:cNvPr id="243" name="Овал 4"/>
          <p:cNvSpPr/>
          <p:nvPr/>
        </p:nvSpPr>
        <p:spPr>
          <a:xfrm>
            <a:off x="146160" y="1959120"/>
            <a:ext cx="2779560" cy="7855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Запад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кругленная прямоугольная выноска 5"/>
          <p:cNvSpPr/>
          <p:nvPr/>
        </p:nvSpPr>
        <p:spPr>
          <a:xfrm>
            <a:off x="47520" y="3135240"/>
            <a:ext cx="3008520" cy="2664000"/>
          </a:xfrm>
          <a:prstGeom prst="wedgeRoundRectCallout">
            <a:avLst>
              <a:gd name="adj1" fmla="val 8453"/>
              <a:gd name="adj2" fmla="val -72185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22268"/>
                </a:solidFill>
                <a:uFillTx/>
                <a:latin typeface="Times New Roman"/>
                <a:ea typeface="Times New Roman"/>
              </a:rPr>
              <a:t>Стремилис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6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 освобождению крестья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6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 введению республ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6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 европейскому образу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Прямоугольник 6" descr=""/>
          <p:cNvPicPr/>
          <p:nvPr/>
        </p:nvPicPr>
        <p:blipFill>
          <a:blip r:embed="rId2"/>
          <a:stretch/>
        </p:blipFill>
        <p:spPr>
          <a:xfrm>
            <a:off x="109440" y="5810400"/>
            <a:ext cx="2944800" cy="645840"/>
          </a:xfrm>
          <a:prstGeom prst="rect">
            <a:avLst/>
          </a:prstGeom>
          <a:ln w="0">
            <a:noFill/>
          </a:ln>
        </p:spPr>
      </p:pic>
      <p:sp>
        <p:nvSpPr>
          <p:cNvPr id="246" name="Овал 7"/>
          <p:cNvSpPr/>
          <p:nvPr/>
        </p:nvSpPr>
        <p:spPr>
          <a:xfrm>
            <a:off x="2925720" y="1959120"/>
            <a:ext cx="3095640" cy="8506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лавянофи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кругленная прямоугольная выноска 9"/>
          <p:cNvSpPr/>
          <p:nvPr/>
        </p:nvSpPr>
        <p:spPr>
          <a:xfrm>
            <a:off x="3139920" y="3135240"/>
            <a:ext cx="2943360" cy="2664000"/>
          </a:xfrm>
          <a:prstGeom prst="wedgeRoundRectCallout">
            <a:avLst>
              <a:gd name="adj1" fmla="val 8453"/>
              <a:gd name="adj2" fmla="val -72185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22268"/>
                </a:solidFill>
                <a:uFillTx/>
                <a:latin typeface="Times New Roman"/>
                <a:ea typeface="Times New Roman"/>
              </a:rPr>
              <a:t>Отстаива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6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верность принципам самодержав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6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усские трад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Прямоугольник 10" descr=""/>
          <p:cNvPicPr/>
          <p:nvPr/>
        </p:nvPicPr>
        <p:blipFill>
          <a:blip r:embed="rId3"/>
          <a:stretch/>
        </p:blipFill>
        <p:spPr>
          <a:xfrm>
            <a:off x="3011400" y="5967360"/>
            <a:ext cx="3071880" cy="646200"/>
          </a:xfrm>
          <a:prstGeom prst="rect">
            <a:avLst/>
          </a:prstGeom>
          <a:ln w="0">
            <a:noFill/>
          </a:ln>
        </p:spPr>
      </p:pic>
      <p:sp>
        <p:nvSpPr>
          <p:cNvPr id="249" name="Овал 11"/>
          <p:cNvSpPr/>
          <p:nvPr/>
        </p:nvSpPr>
        <p:spPr>
          <a:xfrm>
            <a:off x="6027840" y="1967040"/>
            <a:ext cx="3095640" cy="8506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адикалы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росвет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кругленная прямоугольная выноска 12"/>
          <p:cNvSpPr/>
          <p:nvPr/>
        </p:nvSpPr>
        <p:spPr>
          <a:xfrm>
            <a:off x="6173640" y="3284640"/>
            <a:ext cx="2943360" cy="2665440"/>
          </a:xfrm>
          <a:prstGeom prst="wedgeRoundRectCallout">
            <a:avLst>
              <a:gd name="adj1" fmla="val 8453"/>
              <a:gd name="adj2" fmla="val -72185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22268"/>
                </a:solidFill>
                <a:uFillTx/>
                <a:latin typeface="Times New Roman"/>
                <a:ea typeface="Times New Roman"/>
              </a:rPr>
              <a:t>Выступа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6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ротив крепостного пра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6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ротив самодержа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Прямоугольник 13" descr=""/>
          <p:cNvPicPr/>
          <p:nvPr/>
        </p:nvPicPr>
        <p:blipFill>
          <a:blip r:embed="rId4"/>
          <a:stretch/>
        </p:blipFill>
        <p:spPr>
          <a:xfrm>
            <a:off x="5956200" y="6138720"/>
            <a:ext cx="3243240" cy="646200"/>
          </a:xfrm>
          <a:prstGeom prst="rect">
            <a:avLst/>
          </a:prstGeom>
          <a:ln w="0">
            <a:noFill/>
          </a:ln>
        </p:spPr>
      </p:pic>
      <p:sp>
        <p:nvSpPr>
          <p:cNvPr id="252" name="TextBox 14"/>
          <p:cNvSpPr/>
          <p:nvPr/>
        </p:nvSpPr>
        <p:spPr>
          <a:xfrm>
            <a:off x="1423080" y="1278000"/>
            <a:ext cx="653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х перед народной революц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9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оциально-политическая борьба во второй половине 19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кругленная прямоугольная выноска 7"/>
          <p:cNvSpPr/>
          <p:nvPr/>
        </p:nvSpPr>
        <p:spPr>
          <a:xfrm>
            <a:off x="2050920" y="2205000"/>
            <a:ext cx="5400720" cy="2540160"/>
          </a:xfrm>
          <a:prstGeom prst="wedgeRoundRectCallout">
            <a:avLst>
              <a:gd name="adj1" fmla="val 22175"/>
              <a:gd name="adj2" fmla="val -62458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22268"/>
                </a:solidFill>
                <a:uFillTx/>
                <a:latin typeface="Times New Roman"/>
                <a:ea typeface="Times New Roman"/>
              </a:rPr>
              <a:t>Выступали</a:t>
            </a: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про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амодержавия и крепостниче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400" spc="-1" strike="noStrike" u="sng">
                <a:solidFill>
                  <a:srgbClr val="222268"/>
                </a:solidFill>
                <a:uFillTx/>
                <a:latin typeface="Times New Roman"/>
                <a:ea typeface="Times New Roman"/>
              </a:rPr>
              <a:t>мечтали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необходимости ломки стар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устоев в интересах на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2226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Номер слайда 15"/>
          <p:cNvSpPr/>
          <p:nvPr/>
        </p:nvSpPr>
        <p:spPr>
          <a:xfrm>
            <a:off x="6553080" y="6286680"/>
            <a:ext cx="2305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94BA-083C-4F7B-857B-9ACA887254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~PP23398.WAV" descr=""/>
          <p:cNvPicPr/>
          <p:nvPr/>
        </p:nvPicPr>
        <p:blipFill>
          <a:blip r:embed="rId1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7" name="Прямоугольник 1" descr=""/>
          <p:cNvPicPr/>
          <p:nvPr/>
        </p:nvPicPr>
        <p:blipFill>
          <a:blip r:embed="rId2"/>
          <a:stretch/>
        </p:blipFill>
        <p:spPr>
          <a:xfrm>
            <a:off x="1420920" y="1268280"/>
            <a:ext cx="6291000" cy="646200"/>
          </a:xfrm>
          <a:prstGeom prst="rect">
            <a:avLst/>
          </a:prstGeom>
          <a:ln w="0">
            <a:noFill/>
          </a:ln>
        </p:spPr>
      </p:pic>
      <p:pic>
        <p:nvPicPr>
          <p:cNvPr id="258" name="Прямоугольник 6" descr=""/>
          <p:cNvPicPr/>
          <p:nvPr/>
        </p:nvPicPr>
        <p:blipFill>
          <a:blip r:embed="rId3"/>
          <a:stretch/>
        </p:blipFill>
        <p:spPr>
          <a:xfrm>
            <a:off x="2298600" y="4827600"/>
            <a:ext cx="4529160" cy="175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61552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объединяла мысль: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усская жизнь нуждается в коренных изменениях»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х проводить?</a:t>
            </a:r>
            <a:br>
              <a:rPr sz="2800"/>
            </a:b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Овал 2"/>
          <p:cNvSpPr/>
          <p:nvPr/>
        </p:nvSpPr>
        <p:spPr>
          <a:xfrm>
            <a:off x="357120" y="357120"/>
            <a:ext cx="3494160" cy="1143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еволюционеры -   демокр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4"/>
          <p:cNvSpPr/>
          <p:nvPr/>
        </p:nvSpPr>
        <p:spPr>
          <a:xfrm>
            <a:off x="5302080" y="334800"/>
            <a:ext cx="2643480" cy="1071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Либер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5"/>
          <p:cNvSpPr/>
          <p:nvPr/>
        </p:nvSpPr>
        <p:spPr>
          <a:xfrm>
            <a:off x="357120" y="3714840"/>
            <a:ext cx="3494160" cy="1143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еволюционеры - демокр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7"/>
          <p:cNvSpPr/>
          <p:nvPr/>
        </p:nvSpPr>
        <p:spPr>
          <a:xfrm>
            <a:off x="5435640" y="3638520"/>
            <a:ext cx="2921040" cy="1285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Либер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Скругленная прямоугольная выноска 8"/>
          <p:cNvSpPr/>
          <p:nvPr/>
        </p:nvSpPr>
        <p:spPr>
          <a:xfrm>
            <a:off x="606600" y="5084640"/>
            <a:ext cx="2714400" cy="11430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пасение России только в револю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Скругленная прямоугольная выноска 10"/>
          <p:cNvSpPr/>
          <p:nvPr/>
        </p:nvSpPr>
        <p:spPr>
          <a:xfrm>
            <a:off x="4956120" y="5251320"/>
            <a:ext cx="3857760" cy="10717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оссии необходимы реформы сверху, без револю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Выгнутая влево стрелка 11"/>
          <p:cNvSpPr/>
          <p:nvPr/>
        </p:nvSpPr>
        <p:spPr>
          <a:xfrm rot="21165000">
            <a:off x="1184040" y="1496520"/>
            <a:ext cx="731880" cy="797040"/>
          </a:xfrm>
          <a:custGeom>
            <a:avLst/>
            <a:gdLst>
              <a:gd name="textAreaLeft" fmla="*/ 97920 w 731880"/>
              <a:gd name="textAreaRight" fmla="*/ 633960 w 731880"/>
              <a:gd name="textAreaTop" fmla="*/ 130680 h 797040"/>
              <a:gd name="textAreaBottom" fmla="*/ 574920 h 79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081" stAng="-5400000" swAng="-5400000"/>
                <a:lnTo>
                  <a:pt x="0" y="12039"/>
                </a:lnTo>
                <a:arcTo wR="21600" hR="7081" stAng="10800000" swAng="-3106532"/>
                <a:lnTo>
                  <a:pt x="16200" y="21375"/>
                </a:lnTo>
                <a:lnTo>
                  <a:pt x="21600" y="16641"/>
                </a:lnTo>
                <a:lnTo>
                  <a:pt x="16200" y="11457"/>
                </a:lnTo>
                <a:lnTo>
                  <a:pt x="16200" y="13937"/>
                </a:lnTo>
                <a:arcTo wR="21600" hR="7081" stAng="7693468" swAng="2687420"/>
                <a:lnTo>
                  <a:pt x="1367" y="9560"/>
                </a:lnTo>
                <a:arcTo wR="21600" hR="7081" stAng="-10380888" swAng="4980888"/>
                <a:close/>
              </a:path>
              <a:path fill="darkenLess" w="21600" h="21600">
                <a:moveTo>
                  <a:pt x="21600" y="0"/>
                </a:moveTo>
                <a:arcTo wR="21600" hR="7081" stAng="-5400000" swAng="-5400000"/>
                <a:lnTo>
                  <a:pt x="0" y="7081"/>
                </a:lnTo>
                <a:arcTo wR="21600" hR="7081" stAng="10800000" swAng="-419112"/>
                <a:lnTo>
                  <a:pt x="1367" y="9560"/>
                </a:lnTo>
                <a:arcTo wR="21600" hR="7081" stAng="-10380888" swAng="4980888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Выгнутая вправо стрелка 12"/>
          <p:cNvSpPr/>
          <p:nvPr/>
        </p:nvSpPr>
        <p:spPr>
          <a:xfrm rot="742200">
            <a:off x="7114680" y="1474920"/>
            <a:ext cx="731880" cy="828720"/>
          </a:xfrm>
          <a:custGeom>
            <a:avLst/>
            <a:gdLst>
              <a:gd name="textAreaLeft" fmla="*/ 97920 w 731880"/>
              <a:gd name="textAreaRight" fmla="*/ 633960 w 731880"/>
              <a:gd name="textAreaTop" fmla="*/ 138600 h 828720"/>
              <a:gd name="textAreaBottom" fmla="*/ 598680 h 8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224" stAng="-5400000" swAng="5400000"/>
                <a:lnTo>
                  <a:pt x="21600" y="11992"/>
                </a:lnTo>
                <a:arcTo wR="21600" hR="7224" stAng="0" swAng="3139746"/>
                <a:lnTo>
                  <a:pt x="5400" y="21371"/>
                </a:lnTo>
                <a:lnTo>
                  <a:pt x="0" y="16831"/>
                </a:lnTo>
                <a:lnTo>
                  <a:pt x="5400" y="11833"/>
                </a:lnTo>
                <a:lnTo>
                  <a:pt x="5400" y="14218"/>
                </a:lnTo>
                <a:arcTo wR="21600" hR="7224" stAng="3139746" swAng="-2739616"/>
                <a:lnTo>
                  <a:pt x="20390" y="9608"/>
                </a:lnTo>
                <a:arcTo wR="21600" hR="7224" stAng="-400130" swAng="-4999870"/>
                <a:close/>
              </a:path>
              <a:path fill="darkenLess" w="21600" h="21600">
                <a:moveTo>
                  <a:pt x="0" y="0"/>
                </a:moveTo>
                <a:arcTo wR="21600" hR="7224" stAng="-5400000" swAng="5400000"/>
                <a:lnTo>
                  <a:pt x="21600" y="11992"/>
                </a:lnTo>
                <a:arcTo wR="21600" hR="7224" stAng="0" swAng="-400130"/>
                <a:lnTo>
                  <a:pt x="20390" y="9608"/>
                </a:lnTo>
                <a:arcTo wR="21600" hR="7224" stAng="-400130" swAng="-499987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Номер слайда 17"/>
          <p:cNvSpPr/>
          <p:nvPr/>
        </p:nvSpPr>
        <p:spPr>
          <a:xfrm>
            <a:off x="6553080" y="6286680"/>
            <a:ext cx="2305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EFAD-DBDC-45B3-A88A-F03EDC5A6E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~PP23476.WAV" descr=""/>
          <p:cNvPicPr/>
          <p:nvPr/>
        </p:nvPicPr>
        <p:blipFill>
          <a:blip r:embed="rId1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оциально-политическая борьба во второй половине 19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Овал 4"/>
          <p:cNvSpPr/>
          <p:nvPr/>
        </p:nvSpPr>
        <p:spPr>
          <a:xfrm>
            <a:off x="125280" y="1181160"/>
            <a:ext cx="2779920" cy="785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очвен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Скругленная прямоугольная выноска 5"/>
          <p:cNvSpPr/>
          <p:nvPr/>
        </p:nvSpPr>
        <p:spPr>
          <a:xfrm>
            <a:off x="47520" y="2392200"/>
            <a:ext cx="3008520" cy="2664000"/>
          </a:xfrm>
          <a:prstGeom prst="wedgeRoundRectCallout">
            <a:avLst>
              <a:gd name="adj1" fmla="val 8453"/>
              <a:gd name="adj2" fmla="val -72185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22268"/>
                </a:solidFill>
                <a:uFillTx/>
                <a:latin typeface="Times New Roman"/>
                <a:ea typeface="Times New Roman"/>
              </a:rPr>
              <a:t>Считали, ч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«русское общество должно соединиться с народною почво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Прямоугольник 6" descr=""/>
          <p:cNvPicPr/>
          <p:nvPr/>
        </p:nvPicPr>
        <p:blipFill>
          <a:blip r:embed="rId1"/>
          <a:stretch/>
        </p:blipFill>
        <p:spPr>
          <a:xfrm>
            <a:off x="-73080" y="5175360"/>
            <a:ext cx="3260880" cy="1384200"/>
          </a:xfrm>
          <a:prstGeom prst="rect">
            <a:avLst/>
          </a:prstGeom>
          <a:ln w="0">
            <a:noFill/>
          </a:ln>
        </p:spPr>
      </p:pic>
      <p:sp>
        <p:nvSpPr>
          <p:cNvPr id="274" name="Овал 7"/>
          <p:cNvSpPr/>
          <p:nvPr/>
        </p:nvSpPr>
        <p:spPr>
          <a:xfrm>
            <a:off x="2909880" y="1181160"/>
            <a:ext cx="3095640" cy="8506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Народ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Скругленная прямоугольная выноска 9"/>
          <p:cNvSpPr/>
          <p:nvPr/>
        </p:nvSpPr>
        <p:spPr>
          <a:xfrm>
            <a:off x="3100320" y="2392200"/>
            <a:ext cx="2943360" cy="2664000"/>
          </a:xfrm>
          <a:prstGeom prst="wedgeRoundRectCallout">
            <a:avLst>
              <a:gd name="adj1" fmla="val 8453"/>
              <a:gd name="adj2" fmla="val -72185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22268"/>
                </a:solidFill>
                <a:uFillTx/>
                <a:latin typeface="Times New Roman"/>
                <a:ea typeface="Times New Roman"/>
              </a:rPr>
              <a:t>Развив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идеи      крестьянской револю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Прямоугольник 10" descr=""/>
          <p:cNvPicPr/>
          <p:nvPr/>
        </p:nvPicPr>
        <p:blipFill>
          <a:blip r:embed="rId2"/>
          <a:stretch/>
        </p:blipFill>
        <p:spPr>
          <a:xfrm>
            <a:off x="3346560" y="5175360"/>
            <a:ext cx="2120760" cy="523800"/>
          </a:xfrm>
          <a:prstGeom prst="rect">
            <a:avLst/>
          </a:prstGeom>
          <a:ln w="0">
            <a:noFill/>
          </a:ln>
        </p:spPr>
      </p:pic>
      <p:sp>
        <p:nvSpPr>
          <p:cNvPr id="277" name="Овал 11"/>
          <p:cNvSpPr/>
          <p:nvPr/>
        </p:nvSpPr>
        <p:spPr>
          <a:xfrm>
            <a:off x="6039000" y="1181160"/>
            <a:ext cx="3097080" cy="8506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елигиоз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философ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Скругленная прямоугольная выноска 12"/>
          <p:cNvSpPr/>
          <p:nvPr/>
        </p:nvSpPr>
        <p:spPr>
          <a:xfrm>
            <a:off x="6043680" y="2392200"/>
            <a:ext cx="2944800" cy="2664000"/>
          </a:xfrm>
          <a:prstGeom prst="wedgeRoundRectCallout">
            <a:avLst>
              <a:gd name="adj1" fmla="val 11560"/>
              <a:gd name="adj2" fmla="val -67282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22268"/>
                </a:solidFill>
                <a:uFillTx/>
                <a:latin typeface="Times New Roman"/>
                <a:ea typeface="Times New Roman"/>
              </a:rPr>
              <a:t>Призвание человека </a:t>
            </a: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в достижении богоподобного могу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Прямоугольник 13" descr=""/>
          <p:cNvPicPr/>
          <p:nvPr/>
        </p:nvPicPr>
        <p:blipFill>
          <a:blip r:embed="rId3"/>
          <a:stretch/>
        </p:blipFill>
        <p:spPr>
          <a:xfrm>
            <a:off x="6254640" y="5151600"/>
            <a:ext cx="252432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61440" y="20160"/>
            <a:ext cx="8401320" cy="671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Скругленный прямоугольник 2"/>
          <p:cNvSpPr/>
          <p:nvPr/>
        </p:nvSpPr>
        <p:spPr>
          <a:xfrm>
            <a:off x="457200" y="1417680"/>
            <a:ext cx="3714840" cy="1071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ритический реализ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«натуральная школ</a:t>
            </a: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Скругленный прямоугольник 3"/>
          <p:cNvSpPr/>
          <p:nvPr/>
        </p:nvSpPr>
        <p:spPr>
          <a:xfrm>
            <a:off x="4786200" y="1428840"/>
            <a:ext cx="3714840" cy="1071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«Чистое искусств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Скругленный прямоугольник 4"/>
          <p:cNvSpPr/>
          <p:nvPr/>
        </p:nvSpPr>
        <p:spPr>
          <a:xfrm>
            <a:off x="417600" y="2603520"/>
            <a:ext cx="3714840" cy="2346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«Период с 1856 года по 1880 год – время величайших достижений русского критического реализма 19 века» (Д.Д.Благ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Скругленный прямоугольник 5"/>
          <p:cNvSpPr/>
          <p:nvPr/>
        </p:nvSpPr>
        <p:spPr>
          <a:xfrm>
            <a:off x="4572000" y="2603520"/>
            <a:ext cx="4394160" cy="3400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Теоретики «чистого искусства» романтизировали возвышенное и прекрасное, противопоставляли «вечное» в искусстве «злободневному», призывали быть далёкими от «житейского волнен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Скругленный прямоугольник 6"/>
          <p:cNvSpPr/>
          <p:nvPr/>
        </p:nvSpPr>
        <p:spPr>
          <a:xfrm>
            <a:off x="149400" y="5468760"/>
            <a:ext cx="4606920" cy="1071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исатели демократических убеждений сгруппировались вокруг журнала «Современн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Стрелка вниз 7"/>
          <p:cNvSpPr/>
          <p:nvPr/>
        </p:nvSpPr>
        <p:spPr>
          <a:xfrm>
            <a:off x="2071800" y="5003640"/>
            <a:ext cx="485640" cy="455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Номер слайда 8"/>
          <p:cNvSpPr/>
          <p:nvPr/>
        </p:nvSpPr>
        <p:spPr>
          <a:xfrm>
            <a:off x="6553080" y="6286680"/>
            <a:ext cx="2305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03B5-8461-4F58-90CE-6C8C14EF3F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оциально-политическая борьба в литера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Рисунок 2" descr=""/>
          <p:cNvPicPr/>
          <p:nvPr/>
        </p:nvPicPr>
        <p:blipFill>
          <a:blip r:embed="rId1"/>
          <a:stretch/>
        </p:blipFill>
        <p:spPr>
          <a:xfrm>
            <a:off x="1692360" y="907920"/>
            <a:ext cx="5837040" cy="4735800"/>
          </a:xfrm>
          <a:prstGeom prst="rect">
            <a:avLst/>
          </a:prstGeom>
          <a:ln w="0">
            <a:noFill/>
          </a:ln>
        </p:spPr>
      </p:pic>
      <p:sp>
        <p:nvSpPr>
          <p:cNvPr id="290" name="Прямоугольник 3"/>
          <p:cNvSpPr/>
          <p:nvPr/>
        </p:nvSpPr>
        <p:spPr>
          <a:xfrm>
            <a:off x="0" y="56437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сотрудников журнала "Современник". Сидят слева направ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А. Гончаров, И.С. Тургенев, А.В. Дружинин, А.Н. Островск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ят: Л.Н. Толстой, Д.В. Григорови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Номер слайда 4"/>
          <p:cNvSpPr/>
          <p:nvPr/>
        </p:nvSpPr>
        <p:spPr>
          <a:xfrm>
            <a:off x="6553080" y="6286680"/>
            <a:ext cx="2305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4AE2-C263-4FD7-B4D1-EBF1E880B6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Заголовок 1"/>
          <p:cNvSpPr/>
          <p:nvPr/>
        </p:nvSpPr>
        <p:spPr>
          <a:xfrm>
            <a:off x="4460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редставители критического реа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FAE4-7276-404D-AD81-C5474F42AB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" descr="Федор Тютчев: женщины, имидж России, Бенкендорф Блог Перемен"/>
          <p:cNvPicPr/>
          <p:nvPr/>
        </p:nvPicPr>
        <p:blipFill>
          <a:blip r:embed="rId1"/>
          <a:stretch/>
        </p:blipFill>
        <p:spPr>
          <a:xfrm>
            <a:off x="272880" y="1919160"/>
            <a:ext cx="2881440" cy="35211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" descr="Афанасий Фет"/>
          <p:cNvPicPr/>
          <p:nvPr/>
        </p:nvPicPr>
        <p:blipFill>
          <a:blip r:embed="rId2"/>
          <a:stretch/>
        </p:blipFill>
        <p:spPr>
          <a:xfrm>
            <a:off x="3306600" y="1125360"/>
            <a:ext cx="2530800" cy="35085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Рефераты по литературе и русскому языку &quot; Страница 34 - Xreferat.ru - Банк рефератов, сочинений, докладов, курсовых и дипломных"/>
          <p:cNvPicPr/>
          <p:nvPr/>
        </p:nvPicPr>
        <p:blipFill>
          <a:blip r:embed="rId3"/>
          <a:stretch/>
        </p:blipFill>
        <p:spPr>
          <a:xfrm>
            <a:off x="6029280" y="1989000"/>
            <a:ext cx="2822760" cy="3548160"/>
          </a:xfrm>
          <a:prstGeom prst="rect">
            <a:avLst/>
          </a:prstGeom>
          <a:ln w="0">
            <a:noFill/>
          </a:ln>
        </p:spPr>
      </p:pic>
      <p:sp>
        <p:nvSpPr>
          <p:cNvPr id="297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редставители «чистого искусств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"/>
          <p:cNvSpPr/>
          <p:nvPr/>
        </p:nvSpPr>
        <p:spPr>
          <a:xfrm>
            <a:off x="476280" y="5464080"/>
            <a:ext cx="23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 И. Тютч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7"/>
          <p:cNvSpPr/>
          <p:nvPr/>
        </p:nvSpPr>
        <p:spPr>
          <a:xfrm>
            <a:off x="3731040" y="4637160"/>
            <a:ext cx="168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А. Ф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8"/>
          <p:cNvSpPr/>
          <p:nvPr/>
        </p:nvSpPr>
        <p:spPr>
          <a:xfrm>
            <a:off x="6309360" y="5537160"/>
            <a:ext cx="23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К. Толс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Основные проблемы в литературе 19 века</a:t>
            </a:r>
            <a:br>
              <a:rPr sz="2800"/>
            </a:b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(готовимся к ЕГЭ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ро и зл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на  и наказ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р и вой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нергия человека и его бездейств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дрость и легкомысл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вь и отчужд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спотизм и рабст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 и празд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о и душ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а и скепси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одготовка к ЕГЭ по русскому языку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4-5plus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6553080" y="6286680"/>
            <a:ext cx="2305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A4B0-E8B7-439D-A683-BEC61406B1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E976-7FBD-48CA-8836-46998A1E8927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0A9F-01BF-431E-994C-99D85BE2A96D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Прямоугольник 3" descr=""/>
          <p:cNvPicPr/>
          <p:nvPr/>
        </p:nvPicPr>
        <p:blipFill>
          <a:blip r:embed="rId1"/>
          <a:stretch/>
        </p:blipFill>
        <p:spPr>
          <a:xfrm>
            <a:off x="-115920" y="2017800"/>
            <a:ext cx="937584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FC52-F0E3-4196-9F22-996F35B495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"/>
          <p:cNvSpPr/>
          <p:nvPr/>
        </p:nvSpPr>
        <p:spPr>
          <a:xfrm>
            <a:off x="994320" y="1341360"/>
            <a:ext cx="7405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 девятнадцатый, железны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истину жестокий век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Бл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оугольник 1"/>
          <p:cNvSpPr/>
          <p:nvPr/>
        </p:nvSpPr>
        <p:spPr>
          <a:xfrm>
            <a:off x="65880" y="404640"/>
            <a:ext cx="897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тели русского классициз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0" y="1149480"/>
            <a:ext cx="3357720" cy="2570040"/>
          </a:xfrm>
          <a:prstGeom prst="rect">
            <a:avLst/>
          </a:prstGeom>
          <a:ln w="0">
            <a:noFill/>
          </a:ln>
        </p:spPr>
      </p:pic>
      <p:sp>
        <p:nvSpPr>
          <p:cNvPr id="309" name="TextBox 3"/>
          <p:cNvSpPr/>
          <p:nvPr/>
        </p:nvSpPr>
        <p:spPr>
          <a:xfrm>
            <a:off x="383760" y="3714840"/>
            <a:ext cx="23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 Канте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2"/>
          <a:stretch/>
        </p:blipFill>
        <p:spPr>
          <a:xfrm>
            <a:off x="3564000" y="1500120"/>
            <a:ext cx="2247840" cy="3162240"/>
          </a:xfrm>
          <a:prstGeom prst="rect">
            <a:avLst/>
          </a:prstGeom>
          <a:ln w="0">
            <a:noFill/>
          </a:ln>
        </p:spPr>
      </p:pic>
      <p:sp>
        <p:nvSpPr>
          <p:cNvPr id="311" name="TextBox 5"/>
          <p:cNvSpPr/>
          <p:nvPr/>
        </p:nvSpPr>
        <p:spPr>
          <a:xfrm>
            <a:off x="2708280" y="4714920"/>
            <a:ext cx="333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. Тредиак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3"/>
          <a:stretch/>
        </p:blipFill>
        <p:spPr>
          <a:xfrm>
            <a:off x="6167520" y="2000160"/>
            <a:ext cx="2976480" cy="38577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7"/>
          <p:cNvSpPr/>
          <p:nvPr/>
        </p:nvSpPr>
        <p:spPr>
          <a:xfrm>
            <a:off x="6279480" y="5929200"/>
            <a:ext cx="26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. Ломон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-27360" y="1267920"/>
            <a:ext cx="95821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. Ориентация </a:t>
            </a:r>
            <a:r>
              <a:rPr b="1" lang="ru-RU" sz="32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на античное искусство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2. Простота, стройность, логичность композиции произведения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3.Общественная, гражданская проблематика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4.Основные герои – цари, полководцы, государственные деятели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5.Строгая иерархия жанров, героев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6.Теория «трёх штилей»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7.Правило «трёх единств»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360" y="356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лассицизм</a:t>
            </a:r>
            <a:endParaRPr b="0" lang="en-US" sz="5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6" name="Прямоугольник 2"/>
          <p:cNvSpPr/>
          <p:nvPr/>
        </p:nvSpPr>
        <p:spPr>
          <a:xfrm>
            <a:off x="0" y="1341360"/>
            <a:ext cx="9144000" cy="460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3300"/>
                </a:solidFill>
                <a:latin typeface="Monotype Corsiva"/>
              </a:rPr>
              <a:t>     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усские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лассицисты</a:t>
            </a:r>
            <a:endParaRPr b="0" lang="en-US" sz="4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8" name="Text Box 13"/>
          <p:cNvSpPr/>
          <p:nvPr/>
        </p:nvSpPr>
        <p:spPr>
          <a:xfrm>
            <a:off x="4947120" y="5668920"/>
            <a:ext cx="325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. И. Фонвиз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6"/>
          <p:cNvSpPr/>
          <p:nvPr/>
        </p:nvSpPr>
        <p:spPr>
          <a:xfrm>
            <a:off x="1183680" y="5630760"/>
            <a:ext cx="315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. Р. Держав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17" descr="Рисунок6_0"/>
          <p:cNvPicPr/>
          <p:nvPr/>
        </p:nvPicPr>
        <p:blipFill>
          <a:blip r:embed="rId1"/>
          <a:stretch/>
        </p:blipFill>
        <p:spPr>
          <a:xfrm>
            <a:off x="1258920" y="1700280"/>
            <a:ext cx="3005280" cy="38894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8" descr="Рисунок7_0"/>
          <p:cNvPicPr/>
          <p:nvPr/>
        </p:nvPicPr>
        <p:blipFill>
          <a:blip r:embed="rId2"/>
          <a:stretch/>
        </p:blipFill>
        <p:spPr>
          <a:xfrm>
            <a:off x="4932360" y="1700280"/>
            <a:ext cx="2997360" cy="38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8" descr="ричардсон"/>
          <p:cNvPicPr/>
          <p:nvPr/>
        </p:nvPicPr>
        <p:blipFill>
          <a:blip r:embed="rId1"/>
          <a:stretch/>
        </p:blipFill>
        <p:spPr>
          <a:xfrm>
            <a:off x="324000" y="1484280"/>
            <a:ext cx="2743200" cy="34574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9" descr="стерн"/>
          <p:cNvPicPr/>
          <p:nvPr/>
        </p:nvPicPr>
        <p:blipFill>
          <a:blip r:embed="rId2"/>
          <a:stretch/>
        </p:blipFill>
        <p:spPr>
          <a:xfrm>
            <a:off x="3492360" y="1484280"/>
            <a:ext cx="2487600" cy="345744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-324360" y="4971960"/>
            <a:ext cx="4032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нглия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эмюэл Ричардсон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987280" y="4944600"/>
            <a:ext cx="3600360" cy="16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нглия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Лоренс Стерн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326" name="Picture 23" descr="ж-ж"/>
          <p:cNvPicPr/>
          <p:nvPr/>
        </p:nvPicPr>
        <p:blipFill>
          <a:blip r:embed="rId3"/>
          <a:stretch/>
        </p:blipFill>
        <p:spPr>
          <a:xfrm>
            <a:off x="6381720" y="1484280"/>
            <a:ext cx="2654280" cy="345744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16"/>
          <p:cNvSpPr/>
          <p:nvPr/>
        </p:nvSpPr>
        <p:spPr>
          <a:xfrm>
            <a:off x="6012000" y="4946760"/>
            <a:ext cx="360036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н Жак Русс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title"/>
          </p:nvPr>
        </p:nvSpPr>
        <p:spPr>
          <a:xfrm>
            <a:off x="468360" y="356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снователи сентиментализма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9"/>
          <p:cNvSpPr/>
          <p:nvPr/>
        </p:nvSpPr>
        <p:spPr>
          <a:xfrm>
            <a:off x="5017680" y="5589720"/>
            <a:ext cx="32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. М. Карамз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6064200" y="491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1489320" y="5661000"/>
            <a:ext cx="304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 Н. Радищ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7" descr="Рисунок8_0"/>
          <p:cNvPicPr/>
          <p:nvPr/>
        </p:nvPicPr>
        <p:blipFill>
          <a:blip r:embed="rId1"/>
          <a:stretch/>
        </p:blipFill>
        <p:spPr>
          <a:xfrm>
            <a:off x="1116000" y="1628640"/>
            <a:ext cx="3116160" cy="39610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8" descr="Рисунок9_0"/>
          <p:cNvPicPr/>
          <p:nvPr/>
        </p:nvPicPr>
        <p:blipFill>
          <a:blip r:embed="rId2"/>
          <a:stretch/>
        </p:blipFill>
        <p:spPr>
          <a:xfrm>
            <a:off x="5003640" y="1628640"/>
            <a:ext cx="3052800" cy="396108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69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3300"/>
                </a:solidFill>
                <a:latin typeface="Monotype Corsiva"/>
              </a:rPr>
              <a:t>     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усские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ентименталисты</a:t>
            </a:r>
            <a:endParaRPr b="0" lang="en-US" sz="4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ентиментализм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4288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1. Изображение человеческой психологии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2. Действия и поступки героев определяются с точки зрения чувств, преувеличенная чувствительность героев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3. Идеализация действительности, субъективное изображение мира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4. В центре изображения – чувства, природа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5. Представители низших сословий наделяются богатым духовным миром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6. Идеалом является нравственная чистота, не испорченность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7. Значимость гражданской проблематики содержания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ACC9-58CC-4FBE-AE0F-0856E68834B1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5CB6-D647-448C-99A5-DE1903382620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5"/>
          <p:cNvSpPr/>
          <p:nvPr/>
        </p:nvSpPr>
        <p:spPr>
          <a:xfrm>
            <a:off x="0" y="1341360"/>
            <a:ext cx="9144000" cy="4680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1"/>
          <p:cNvSpPr/>
          <p:nvPr/>
        </p:nvSpPr>
        <p:spPr>
          <a:xfrm>
            <a:off x="952920" y="701640"/>
            <a:ext cx="715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тели романтизм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2"/>
          <p:cNvSpPr/>
          <p:nvPr/>
        </p:nvSpPr>
        <p:spPr>
          <a:xfrm>
            <a:off x="1413720" y="1728720"/>
            <a:ext cx="399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Людвиг Т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братья Шлег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Шеллин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авая фигурная скобка 3"/>
          <p:cNvSpPr/>
          <p:nvPr/>
        </p:nvSpPr>
        <p:spPr>
          <a:xfrm>
            <a:off x="5167440" y="1703520"/>
            <a:ext cx="571320" cy="1928520"/>
          </a:xfrm>
          <a:custGeom>
            <a:avLst/>
            <a:gdLst>
              <a:gd name="textAreaLeft" fmla="*/ 0 w 571320"/>
              <a:gd name="textAreaRight" fmla="*/ 206280 w 571320"/>
              <a:gd name="textAreaTop" fmla="*/ 14760 h 1928520"/>
              <a:gd name="textAreaBottom" fmla="*/ 1913760 h 192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7"/>
                  <a:pt x="10800" y="533"/>
                </a:cubicBezTo>
                <a:lnTo>
                  <a:pt x="10800" y="10267"/>
                </a:lnTo>
                <a:cubicBezTo>
                  <a:pt x="10800" y="10534"/>
                  <a:pt x="16200" y="10800"/>
                  <a:pt x="21600" y="10800"/>
                </a:cubicBezTo>
                <a:cubicBezTo>
                  <a:pt x="16200" y="10800"/>
                  <a:pt x="10800" y="11067"/>
                  <a:pt x="10800" y="11333"/>
                </a:cubicBezTo>
                <a:lnTo>
                  <a:pt x="10800" y="21067"/>
                </a:lnTo>
                <a:cubicBezTo>
                  <a:pt x="10800" y="21334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4"/>
          <p:cNvSpPr/>
          <p:nvPr/>
        </p:nvSpPr>
        <p:spPr>
          <a:xfrm>
            <a:off x="5720040" y="2344680"/>
            <a:ext cx="263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ерм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5"/>
          <p:cNvSpPr/>
          <p:nvPr/>
        </p:nvSpPr>
        <p:spPr>
          <a:xfrm>
            <a:off x="1973520" y="4286160"/>
            <a:ext cx="632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В. А. Жуковский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 Рос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омантизм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0" y="1052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1.Необычность характеров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2.Трагический поединок личности и судьбы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3.Герой – бунтарь, одиночка, мечтатель,сильная личность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4.Интерес ко всему экзотическому (пейзаж, события, люди), сильному, яркому, возвышенному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5.Смешение высокого и низкого, трагического и комического, обыденного и необычного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6.Культ свободы: стремление личности к абсолютной свободе, к идеалу, к совершенству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7. Красочный язык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4069-542E-411F-A96D-57E55670E50F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B594-CDB0-4FFA-9F39-6491E2BF7C30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5"/>
          <p:cNvSpPr/>
          <p:nvPr/>
        </p:nvSpPr>
        <p:spPr>
          <a:xfrm>
            <a:off x="0" y="1125360"/>
            <a:ext cx="9144000" cy="5183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4A96-5C0B-46D2-BA23-482485C6F4D8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6DED-227A-434B-BAF5-67F50B046626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Заголовок 1"/>
          <p:cNvSpPr/>
          <p:nvPr/>
        </p:nvSpPr>
        <p:spPr>
          <a:xfrm>
            <a:off x="45720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4" descr="пушкин а.с. портрет"/>
          <p:cNvPicPr/>
          <p:nvPr/>
        </p:nvPicPr>
        <p:blipFill>
          <a:blip r:embed="rId1"/>
          <a:srcRect l="8319" t="0" r="3653" b="12784"/>
          <a:stretch/>
        </p:blipFill>
        <p:spPr>
          <a:xfrm>
            <a:off x="0" y="836640"/>
            <a:ext cx="1940040" cy="25923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" descr="ПОЭТ, ХУДОЖНИК, МУЗЫКАНТ ЛЕРМОНТОВ М. Ю."/>
          <p:cNvPicPr/>
          <p:nvPr/>
        </p:nvPicPr>
        <p:blipFill>
          <a:blip r:embed="rId2"/>
          <a:srcRect l="0" t="0" r="0" b="20268"/>
          <a:stretch/>
        </p:blipFill>
        <p:spPr>
          <a:xfrm>
            <a:off x="1763640" y="1258920"/>
            <a:ext cx="2060640" cy="2411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8" descr="ГОГОЛЬ Н. В. ЛЮБОВЬ К КНИГЕ"/>
          <p:cNvPicPr/>
          <p:nvPr/>
        </p:nvPicPr>
        <p:blipFill>
          <a:blip r:embed="rId3"/>
          <a:srcRect l="0" t="0" r="0" b="17025"/>
          <a:stretch/>
        </p:blipFill>
        <p:spPr>
          <a:xfrm>
            <a:off x="276120" y="3573360"/>
            <a:ext cx="1893960" cy="24480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0" descr="Иван Александрович Гончаров"/>
          <p:cNvPicPr/>
          <p:nvPr/>
        </p:nvPicPr>
        <p:blipFill>
          <a:blip r:embed="rId4"/>
          <a:srcRect l="0" t="0" r="0" b="20268"/>
          <a:stretch/>
        </p:blipFill>
        <p:spPr>
          <a:xfrm>
            <a:off x="5435640" y="1344600"/>
            <a:ext cx="1958760" cy="2411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2" descr="ДОСТОЕВСКИЙ ФЕДОР МИХАЙЛОВИЧ"/>
          <p:cNvPicPr/>
          <p:nvPr/>
        </p:nvPicPr>
        <p:blipFill>
          <a:blip r:embed="rId5"/>
          <a:srcRect l="0" t="0" r="0" b="17743"/>
          <a:stretch/>
        </p:blipFill>
        <p:spPr>
          <a:xfrm>
            <a:off x="7307280" y="888840"/>
            <a:ext cx="1801800" cy="24876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4" descr="НЕКРАСОВ Н.А. ПОЭТ И НАРОД"/>
          <p:cNvPicPr/>
          <p:nvPr/>
        </p:nvPicPr>
        <p:blipFill>
          <a:blip r:embed="rId6"/>
          <a:stretch/>
        </p:blipFill>
        <p:spPr>
          <a:xfrm>
            <a:off x="3824280" y="3573360"/>
            <a:ext cx="1752480" cy="22924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6" descr=" МИХАИЛ ЕВГРАФОВИЧ САЛТЫКОВ - ЩЕДРИН"/>
          <p:cNvPicPr/>
          <p:nvPr/>
        </p:nvPicPr>
        <p:blipFill>
          <a:blip r:embed="rId7"/>
          <a:srcRect l="0" t="4290" r="0" b="15629"/>
          <a:stretch/>
        </p:blipFill>
        <p:spPr>
          <a:xfrm>
            <a:off x="7291440" y="3376440"/>
            <a:ext cx="1806480" cy="23562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8" descr="ЛЕВ ТОЛСТОЙ И ДЕТИ портрет"/>
          <p:cNvPicPr/>
          <p:nvPr/>
        </p:nvPicPr>
        <p:blipFill>
          <a:blip r:embed="rId8"/>
          <a:srcRect l="0" t="0" r="0" b="13885"/>
          <a:stretch/>
        </p:blipFill>
        <p:spPr>
          <a:xfrm>
            <a:off x="5450040" y="4029120"/>
            <a:ext cx="18666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001A-D122-4248-B796-F282465E66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Заголовок 1"/>
          <p:cNvSpPr/>
          <p:nvPr/>
        </p:nvSpPr>
        <p:spPr>
          <a:xfrm>
            <a:off x="500040" y="28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Основные события 19 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00040" y="1428840"/>
          <a:ext cx="8128080" cy="2360520"/>
        </p:xfrm>
        <a:graphic>
          <a:graphicData uri="http://schemas.openxmlformats.org/drawingml/2006/table">
            <a:tbl>
              <a:tblPr/>
              <a:tblGrid>
                <a:gridCol w="2709720"/>
                <a:gridCol w="2708280"/>
                <a:gridCol w="2710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бийств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вла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ечественн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й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ст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абрис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986760"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TextBox 6"/>
          <p:cNvSpPr/>
          <p:nvPr/>
        </p:nvSpPr>
        <p:spPr>
          <a:xfrm>
            <a:off x="1134000" y="2955960"/>
            <a:ext cx="36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ление Александр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7"/>
          <p:cNvSpPr/>
          <p:nvPr/>
        </p:nvSpPr>
        <p:spPr>
          <a:xfrm>
            <a:off x="6030000" y="2935440"/>
            <a:ext cx="192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ла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9"/>
          <p:cNvSpPr/>
          <p:nvPr/>
        </p:nvSpPr>
        <p:spPr>
          <a:xfrm>
            <a:off x="1130400" y="5575320"/>
            <a:ext cx="731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825 года – 30 лет молчания (до 1855 го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3164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Основные события 19 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50920" y="784080"/>
          <a:ext cx="8642160" cy="5159520"/>
        </p:xfrm>
        <a:graphic>
          <a:graphicData uri="http://schemas.openxmlformats.org/drawingml/2006/table">
            <a:tbl>
              <a:tblPr/>
              <a:tblGrid>
                <a:gridCol w="2511360"/>
                <a:gridCol w="2111400"/>
                <a:gridCol w="2111400"/>
                <a:gridCol w="1908000"/>
              </a:tblGrid>
              <a:tr h="683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3-18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ымская     вой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на крепостного     пра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бель Александ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правления Никол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</a:tr>
              <a:tr h="192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л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олая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ление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ксанд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ление Александ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Глухие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-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8" name="Номер слайда 4"/>
          <p:cNvSpPr/>
          <p:nvPr/>
        </p:nvSpPr>
        <p:spPr>
          <a:xfrm>
            <a:off x="6553080" y="6286680"/>
            <a:ext cx="2305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73A4-467E-4337-9578-6B768E944B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Номер слайда 2"/>
          <p:cNvSpPr/>
          <p:nvPr/>
        </p:nvSpPr>
        <p:spPr>
          <a:xfrm>
            <a:off x="6553080" y="6286680"/>
            <a:ext cx="2305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476A-100A-4ECA-8DE1-0B06194CD5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~PP13242.WAV" descr=""/>
          <p:cNvPicPr/>
          <p:nvPr/>
        </p:nvPicPr>
        <p:blipFill>
          <a:blip r:embed="rId1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1" name="TextBox 2"/>
          <p:cNvSpPr/>
          <p:nvPr/>
        </p:nvSpPr>
        <p:spPr>
          <a:xfrm>
            <a:off x="478080" y="1268280"/>
            <a:ext cx="8230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безумной радости волнуе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только обилие талантов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ждённых Россией 19 век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и поражающее разнообразие и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Горь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26F2-CAE7-4603-9FD3-749DADB466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Заголовок 1"/>
          <p:cNvSpPr/>
          <p:nvPr/>
        </p:nvSpPr>
        <p:spPr>
          <a:xfrm>
            <a:off x="431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П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ери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одизация русской литерату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XIX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0" y="1143000"/>
          <a:ext cx="9036000" cy="4664160"/>
        </p:xfrm>
        <a:graphic>
          <a:graphicData uri="http://schemas.openxmlformats.org/drawingml/2006/table">
            <a:tbl>
              <a:tblPr/>
              <a:tblGrid>
                <a:gridCol w="1403280"/>
                <a:gridCol w="4896000"/>
                <a:gridCol w="273672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1 –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рьба классицизма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иментализма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мантизма, раннего реализ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ада, поэма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сть, эле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6 –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цвет романтизма, переход от романтизма к реализму и социальной сати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сть, ром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</a:tr>
              <a:tr h="228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42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йная борьба славянофилов и западников, расцвет «натуральной школы», противостояние гоголевской школы и поэтов - лири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ологический очерк, социальная повесть, психологический роман, поэ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BF4C-8F17-402A-A44B-F52B507F93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Заголовок 1"/>
          <p:cNvSpPr/>
          <p:nvPr/>
        </p:nvSpPr>
        <p:spPr>
          <a:xfrm>
            <a:off x="431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П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ери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одизация русской литерату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XIX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-12600" y="1341360"/>
          <a:ext cx="9037440" cy="3840120"/>
        </p:xfrm>
        <a:graphic>
          <a:graphicData uri="http://schemas.openxmlformats.org/drawingml/2006/table">
            <a:tbl>
              <a:tblPr/>
              <a:tblGrid>
                <a:gridCol w="1403280"/>
                <a:gridCol w="4897440"/>
                <a:gridCol w="2736720"/>
              </a:tblGrid>
              <a:tr h="192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5 –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оборство либералов и демократов, расцвет демократической журналистики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ые темы, проблемы и герои в литерату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мократическая повесть, роман, литературная кри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9 –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капитализма, активизация тайных революционных организаций, идеализация крестьянской жизни, развитие реализ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сть, роман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рк, рассказ, ска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80EC-D57F-403E-9426-7C590D3737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Заголовок 1"/>
          <p:cNvSpPr/>
          <p:nvPr/>
        </p:nvSpPr>
        <p:spPr>
          <a:xfrm>
            <a:off x="431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П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ери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одизация русской литерату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XIX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0" y="1163520"/>
          <a:ext cx="9036000" cy="4572000"/>
        </p:xfrm>
        <a:graphic>
          <a:graphicData uri="http://schemas.openxmlformats.org/drawingml/2006/table">
            <a:tbl>
              <a:tblPr/>
              <a:tblGrid>
                <a:gridCol w="1403280"/>
                <a:gridCol w="4824360"/>
                <a:gridCol w="2808360"/>
              </a:tblGrid>
              <a:tr h="2654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82 –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иление реакционной политики царизма, рост пролетариата, пропаганда идей марксизма, обновление тематики в литературе (изображение «среднего человека», интеллигента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каз,  повесть, ром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5 –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капитализма, противостояние реалистической и декадентской литературы, зарождение пролетарской литерату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сть, роман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каз, публицистические жан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31640" y="2602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Основные темы русской литературы 19 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57120" y="1356840"/>
            <a:ext cx="83296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25 – 1855 – основной вопрос: «Кто мы? Что с нами происходит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С. Пушкин «Евгений Онегин», М. Ю. Лермонтов «Герой нашего времени», Н. В. Гоголь «Мёртвые душ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55 – 1861 – основной вопрос: «Кто виноват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 С. Тургенев «Записки охотника», И. А. Гончаров «Обломов», М. Е .Салтыков-Щедрин «Губернские очер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61 – 1881 – основной вопрос: «Что делать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 Г. Чернышевский «Что делать?», Ф. М. Достоевский «Преступление и наказание», Л. Н. Толстой «Война и ми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6553080" y="6286680"/>
            <a:ext cx="2305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AA30-975C-4ABA-AC3F-628ED74084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~PP23335.WAV" descr=""/>
          <p:cNvPicPr/>
          <p:nvPr/>
        </p:nvPicPr>
        <p:blipFill>
          <a:blip r:embed="rId1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9:19:47Z</dcterms:created>
  <dc:creator>_Wizard_</dc:creator>
  <dc:description/>
  <dc:language>en-US</dc:language>
  <cp:lastModifiedBy>Люда</cp:lastModifiedBy>
  <dcterms:modified xsi:type="dcterms:W3CDTF">2014-09-05T17:14:12Z</dcterms:modified>
  <cp:revision>92</cp:revision>
  <dc:subject/>
  <dc:title>Слайд 1</dc:title>
</cp:coreProperties>
</file>